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8BB5-DED6-41FA-8C1C-3E1F53421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7E2D-1580-4D82-99FD-4A886BE7E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08B-21B6-4B19-B957-D37B3BFE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23C-3DF2-4B36-8A90-FF2CA93B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D6D-29C5-4AF9-B082-DFB0936D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B17-D9B6-404D-8B07-74EACF05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6FAA-87BB-41D5-87EF-CCB8237C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EA7E-60D4-46C0-9E00-E7948FCE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10D4-3616-46AF-9750-65A2A541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ABD1-DD0E-4EFB-B524-75F6239B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83ED-0972-4BE2-8653-B12E1675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A4B6-B2F2-42AE-9E8D-F94C173F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2C46-12D2-4094-80D6-EBC63778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D7D-9E6A-4875-AF0E-4FFE86FD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21A7-FE71-4BE9-9C7E-59E897DE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E1BB-229F-4DFD-915A-178AEF77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420A-0A33-4579-9C00-39F9CC36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3A84-2925-4F23-8AC5-16815763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D629-C83B-470A-B880-4AC12096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1F5AE-5C26-4BCA-8DBC-AA84211D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3D49D-024E-4B00-87F8-96111B88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5FF6-0BA3-4B6E-9D56-F89544A8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82F79-EABD-4004-9080-1479ACEE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0BA0-EE8F-4926-BB86-67CF520B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592-D4B5-4A81-9B35-4EE7E8BE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DC11-7439-49DB-B235-E0CAFB3E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6661-0B23-4F5E-B385-A63F06A9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447F7-1ADE-4759-96BB-41BE4B6B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6AE2-86A3-436B-B599-0EF679BF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BE66B-DD33-4A3D-9FA6-E03EB176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675A-B3DC-42F7-849C-A32480A2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59B9-94D0-4C23-AF9E-F383CBEB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922B3-4542-40E0-B0DD-C8198A3E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8AC6-0531-4A4D-852D-EA0D9C04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2C157-39D2-4DE6-847F-8FC89F7E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788-4103-4A24-ABCB-9C21D042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5A132-13D3-49FD-AFD1-D667FC01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7397-9247-4623-8B54-FE851309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7E490-DF0A-4CC0-9208-B6E75305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0EEDC-8262-482D-A827-DEC3E3FB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6EF54-CA0A-4CA7-B80B-23DBA033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407C1-3A68-4EE3-BCC9-CA67F072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EED43-7B86-40EE-B5D1-57DAA748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FFEF5-A7E6-4688-8B99-A946B9CE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C1B13-9662-47A1-A3E1-FDA3107E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2F7F0-8E25-414B-91B9-DBD39593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647-D73E-4D80-8929-B240105E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3CC3-D325-4E0A-8C3B-D8CE03B3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3D95E-A4AB-40FF-B77C-3D573473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1EA4-3436-4924-B2F7-82107C7C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68ED3-4DDA-4FDD-9076-E67A5CDC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F8E3-6B0E-4FB6-A53D-46B2121F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D391-4201-4DAC-BC58-A354D26C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25F20-1FB6-435E-AD88-DA009D6A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6145D-E0F4-47C8-8116-2137B5AB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4F25-170F-474F-8773-F347C61E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6ECC-E4A2-4AA0-80EE-492EE6DB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D5D-5EF6-4157-96FA-33353D89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5BBFD-179E-4541-AA75-980E0980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4DF-E9D1-432E-851E-3256367D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EB9-3800-409A-B960-88F9F20F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A32-CC35-4E6B-BB79-05FC0C3D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FD45-1836-4BD9-A957-241A49042F9F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CD7E-3494-4A21-B99C-8E8D7AC290C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FB3B-4842-41E4-A203-B1C1CFAC8F77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0C76-FF9C-482A-B810-71D86FA457F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F44A-2217-4E85-B30C-5923AD31885B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F821-1EC5-4A15-B885-87014CD8B96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A8F5-AED2-464C-A8AE-CA919D3DD906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BA6E-51F9-4779-AB1E-2A394855BF8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4078-185E-4C1C-A9B7-9BAA43181917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212E-D26B-425D-A4D5-3CBB8B0594B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Rockwell Condensed"/>
              </a:rPr>
              <a:t>Critical Care Training for Primary Care Physician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61760" y="4876560"/>
            <a:ext cx="7732440" cy="1066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Pramita Kuruvilla, 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Critical Care Cou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June 2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2004 FOCCUS: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F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aming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O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ptions for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itical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are in the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U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nited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S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tat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askforce of the SCCM, ACCP, ATS, AACC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accelerated demand for critic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Baby boo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burden of chronic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public demand fo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decreasing numbers of CCU-trained fe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FOCCUS Find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Only 37% of CCU patients cared for by CCU-trained physici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63% of CCU patients are cared for by PRIMARY CARE M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Critical Care delivery, which has evolved over the last three decades, requires major reorganization, innovative technology, and more effective use of current professional talent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is why primary care physicians need CCU training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Course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Please arrive from and return to clinical duties promptly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3-4:30: Awesome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4:30-6: Sublime Workshops (2 group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628560" indent="-14580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A: Central Lines/US: 4A Conf Rm 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B: Vents: Noon Conf R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Next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Fantastic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Pimpalicious Megacode on Wednesday ev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Course Eval: if you do not fill this out, you will be tarred and feath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3:38:19Z</dcterms:created>
  <dc:creator>pkuruvil</dc:creator>
  <dc:description/>
  <dc:language>en-US</dc:language>
  <cp:lastModifiedBy>HCMARTINEZ</cp:lastModifiedBy>
  <dcterms:modified xsi:type="dcterms:W3CDTF">2009-06-02T22:12:59Z</dcterms:modified>
  <cp:revision>7</cp:revision>
  <dc:subject/>
  <dc:title>Critical Care Training for Primary Care Physicians</dc:title>
</cp:coreProperties>
</file>